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1E7-85BE-45D7-AE56-EDB52D24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941-0D18-4053-9D03-FAA27257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266-067A-4F88-A883-C6DD1749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B03-4C98-4342-ABE7-D4283A43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FA47-DBEE-4046-B50B-D67FA469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87A-42B1-42C4-8B0B-2E5045D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F52-E186-4147-A3EF-B827B5D3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A65-51A6-40FA-8D1A-2D7DC90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AB83-D495-43E1-BB7B-442E71F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9B09-AE4C-4891-AE73-417DC218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8A5-9568-4700-A6DA-CA98101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7A4-5F89-4908-B9B9-E22A404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EFD-7354-48F4-A341-4BE893B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1D34-3FEC-4C1C-8BBF-C7EE8F4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DFFA-7B85-404C-A2C2-A967ED7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18FC-B168-4F70-9AC8-558D241D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5332-A152-40BE-93B1-BBD947E0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9CE-22D4-4A46-B3CB-C40B7A6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EB0-B518-41BB-B6DB-6777E72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29D-DA22-4A52-B59F-8EB8CFC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915-6DB8-4E93-8CBA-8AF9478A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958-412D-4FB7-AD45-50128C1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591-BADD-4647-B6ED-E2AB46E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1D8-3963-4DF2-9EFE-E742988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62F-31CC-4D43-86F0-A09719DDEE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2CC7-0333-48F1-827F-AED9E13FFB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Урок окружающего мира в 3 классе.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 уксусной кислоте прикасаться опасно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ный дождь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708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м итоги урока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695160" y="1573200"/>
            <a:ext cx="1846440" cy="1766880"/>
            <a:chOff x="695160" y="1573200"/>
            <a:chExt cx="1846440" cy="1766880"/>
          </a:xfrm>
        </p:grpSpPr>
        <p:pic>
          <p:nvPicPr>
            <p:cNvPr id="241" name="AutoShape 4" descr=""/>
            <p:cNvPicPr/>
            <p:nvPr/>
          </p:nvPicPr>
          <p:blipFill>
            <a:blip r:embed="rId1"/>
            <a:stretch/>
          </p:blipFill>
          <p:spPr>
            <a:xfrm>
              <a:off x="695160" y="1573200"/>
              <a:ext cx="18464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16208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AutoShape 6"/>
          <p:cNvGrpSpPr/>
          <p:nvPr/>
        </p:nvGrpSpPr>
        <p:grpSpPr>
          <a:xfrm>
            <a:off x="3505320" y="1639800"/>
            <a:ext cx="1847880" cy="1773360"/>
            <a:chOff x="3505320" y="1639800"/>
            <a:chExt cx="1847880" cy="1773360"/>
          </a:xfrm>
        </p:grpSpPr>
        <p:pic>
          <p:nvPicPr>
            <p:cNvPr id="244" name="AutoShape 6" descr=""/>
            <p:cNvPicPr/>
            <p:nvPr/>
          </p:nvPicPr>
          <p:blipFill>
            <a:blip r:embed="rId2"/>
            <a:stretch/>
          </p:blipFill>
          <p:spPr>
            <a:xfrm>
              <a:off x="3505320" y="1639800"/>
              <a:ext cx="1847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3970440" y="2095560"/>
              <a:ext cx="914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5"/>
          <p:cNvGrpSpPr/>
          <p:nvPr/>
        </p:nvGrpSpPr>
        <p:grpSpPr>
          <a:xfrm>
            <a:off x="6315120" y="1573200"/>
            <a:ext cx="1841400" cy="1766880"/>
            <a:chOff x="6315120" y="1573200"/>
            <a:chExt cx="1841400" cy="17668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6315120" y="1573200"/>
              <a:ext cx="184140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677880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-990720" y="3156480"/>
            <a:ext cx="1116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веществами мы сегодня познаком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Где мы их встречаем каждый ден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из этих веществ мы должны 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ельно  осторожными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ите сегодняшний урок и покажите карто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ношение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з чего состоят ве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Какие вещества быв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80060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933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7242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48769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69592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5627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6386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41972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562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410080"/>
            <a:ext cx="38124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4100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864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943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1520" y="457200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472428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72400" y="533340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5257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57150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6019200"/>
            <a:ext cx="3045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ухн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848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гадайте загадк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ня не едя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без меня  мало едя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403740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бел, как снег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сти у все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от попа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и проп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юкоза, фруктоза – разновидность сахар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7680" cy="337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297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4361040"/>
            <a:ext cx="3073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хмал – тоже вещество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743360" cy="3645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3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бота в тетрад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16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Название веще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3526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лав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276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де встречается, содерж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ен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и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44956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рской воде, под зем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1814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уктах, меде, сахарной свекле, трост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8672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локе, яблоках, муравь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изминут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работали  от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ть не прочь сейчас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рядка к нам привы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 приходит в кла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ше руки, выше пят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нитесь ве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попрыгаем, как зай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у станем всех бод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янулись и вздохну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3324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ы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46480" cy="299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371600" y="4241880"/>
            <a:ext cx="3035160" cy="261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4383000"/>
            <a:ext cx="3295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1-10-07T10:36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